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BA23-1407-469A-9813-8B4946D04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CA7C-3FCA-4162-935D-F7320D2B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FF3-8482-41A7-9866-D292A117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24E-25D7-4EA8-9A47-305DF985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C1D-0E7C-4A40-98FA-7B6C424C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E60-938E-49FE-9C32-D63C8B3F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273D-2474-4B03-B2F7-25FBAC68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B0E3-4822-4692-99BA-C40CB214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0D79-B3ED-4632-825F-2F51E811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106A-097C-445E-9AC4-E6197992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92CB-BE16-4A6F-9B4F-DBAEBAF4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0F37-9C3F-4D59-A361-22CFB768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8DA3-122B-499C-830B-0AC90D69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2A7-E45D-4974-AD8B-31331638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D69F-AF7C-4E81-890D-19E08937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C8A2-8880-43F0-9901-04BD877D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97CF-192E-4E0D-9AD6-D23D3B66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880F-30E1-417C-A4E6-D3CB176E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7E37-1857-4533-AA70-B8F30917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61AD-11AE-4F3B-921B-3D6D2EEE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09C2-8166-49C8-8B66-28EF280F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7F75-8E38-4668-9AE4-77377CCE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7BED7-9480-4A45-AFF2-1903F35D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AB49-56C2-4C84-8F1F-1224DB62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AE8-52D9-4EA6-A1AF-DEEFC016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5E226-3231-462F-BC31-5BEC0BCE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DA277-3393-41BE-B65A-4C30B555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BEF2-098B-4D9C-80CF-6DC91B22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C579-E192-42A1-9F33-1961D011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2F614-B4C7-4579-B520-1FF43AFB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F96F-D41D-4D0F-8021-6DF0088A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890B-893E-46B0-B9B7-710CC5C8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667C-C0DA-47C7-8999-384AE586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E55D1-C9E6-4CD3-B03D-5F4F3DA9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D1D84-0379-40E3-9919-6C1170E5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801-A9FF-4287-A509-39A75317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F3134-3608-4F13-BDA2-84187567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A123B-E0E3-4015-82D5-2C15E9AD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0038-8D14-4B5D-A401-9A501E24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52F1-BB7F-46D9-B1AE-63E2D47C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4149-015C-4D5F-9849-9C7C57EF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6246A-80AD-4A8E-BA1B-E31E0884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24D7E-36FF-4BB7-8536-CCCE9639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87AF4-627A-47E4-A642-1CF49DAC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4F24-B7E8-4917-B6E9-3B084167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573DC-50D5-4322-8DD2-B02D3554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004-B306-47FE-9F5F-801CAE99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137BD-D7CD-4495-82C0-FD971BE5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F030C-FBCB-4FDE-A43B-A5FB8B86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5D000-8C8A-4763-870B-EC5D9267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E02DF-71A8-4D0A-B878-266213D2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8E721-0806-4249-B6D3-3DA83322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053A8-10C8-4CCE-BDDC-3DCB3A6F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F42CF-F5D5-48B1-AB77-543A5EA6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C7B08-FE5D-4A60-A8EB-C344562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62BED-B76E-4143-9906-2FEDAB82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58204-B6A1-49AA-B86E-AE567537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F11-80BD-40DB-B4E7-810D1C4A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560EA-4C20-4AA7-80A5-3F244EA4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405-3012-47C8-9AF5-BAA90BA2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FC8-4A82-45C6-A03E-FEC51A41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0FD-2967-4C0D-AC85-17AF859D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606e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606e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606e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657C-8436-4BAF-B28D-978FC9D675A4}" type="slidenum">
              <a:rPr b="0" lang="en-US" sz="1100" spc="-1" strike="noStrike">
                <a:solidFill>
                  <a:srgbClr val="4a606e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D91C-2028-43E1-8010-5C4DC09BAA6F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606e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606e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606e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0B7C-14DC-4094-BE7E-F396720675BE}" type="slidenum">
              <a:rPr b="0" lang="en-US" sz="1100" spc="-1" strike="noStrike">
                <a:solidFill>
                  <a:srgbClr val="4a606e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e1e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1e1e3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1e1e3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1e1e3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9AF7-995C-4C51-85D7-D5CB47E5DE06}" type="slidenum">
              <a:rPr b="0" lang="en-US" sz="1100" spc="-1" strike="noStrike">
                <a:solidFill>
                  <a:srgbClr val="d1e1e3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606e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606e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606e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3E66-A4E4-4EA5-8CED-022B8AC4E1FA}" type="slidenum">
              <a:rPr b="0" lang="en-US" sz="1100" spc="-1" strike="noStrike">
                <a:solidFill>
                  <a:srgbClr val="4a606e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youtube.com/watch?v=Lyk_43p71x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roduction - THE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ties – introduce essential peop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cene – paint a picture for the ju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ssue – what is the main issu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happened – get the jury to believe your side of the s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is of guilt/non-guilt – why your side should w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icipating and refuting the other si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clusion - Simply and directly</a:t>
            </a:r>
            <a:r>
              <a:rPr b="0" lang="en-US" sz="2600" spc="-1" strike="noStrike">
                <a:solidFill>
                  <a:srgbClr val="cc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ll jury that facts of the case will support his/her side, and ask for a verdic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abber beginning – quick summary of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heme/theory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that draws jurors 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roduction – who are you and who do you represent? (or do this firs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acts/Witnesses –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ell the stor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aint the scenes and introduce the players as they come up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ort close – return to/restate your the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arge the jury – tell them what you’re going to ask them to fi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7351920" cy="1158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228600" y="13712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ackie Demathers, a 15 year old is accused of Class B offense of robbery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degree. On the night of March 1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Officers Tina Rogers, and George Ryan saw the three come out of the Exel Station and run toward the alley behind the gas station. Confirmed by a radio call that the station had just been robbed, the police with a back-up car apprehended Jackie Demathers, Raymond Carr and Kimberely Anson in the alley. Demathers had a paper bag with 227.58 in his pocket. The station attendant identifies the three as the robber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aymond Carr and Kimberely Anson pleaded guilty to robbery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degree. Jackie Demathers went to court where he is pleading the defense of duress. If he proves the defense of duress, he must be found not guilt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s your them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s your hoo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rebuchet MS"/>
              </a:rPr>
              <a:t>Burden of proof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– must prove beyond a reasonable doub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rebuchet MS"/>
              </a:rPr>
              <a:t>Duress: 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defendant participated in the offense under compulsion or force by another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a criminal case, the defendant can use the defense of temporary insanity duress, which can result in a verdict of not guilt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what cases do you think duress should be allow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r side’s version of “what really happened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ogical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it the legal requirements of the claims or defens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e simple to understan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e consistent with the jurors’ common sense and their perception of how real life work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ecced"/>
                </a:solidFill>
                <a:uFillTx/>
                <a:latin typeface="Trebuchet MS"/>
                <a:hlinkClick r:id="rId2"/>
              </a:rPr>
              <a:t>http://www.youtube.com/watch?v=Lyk_43p71xs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228240" y="1676160"/>
            <a:ext cx="80773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HOO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– two children without a fat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HEME/THESE: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She didn’t care”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she can’t have him then no one can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CHARACTER SKETCH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painted a picture of Nikk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INTRODUCE WITNESSE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told the s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CHARGE THE JURY: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mple tell the jury the verdict they will come 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morable word or phrase that summarizes your theor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what should themes be based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ome examples: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This is a case about taking chances.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Mary Jones had a dream and a plan.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Revenge. That’s what this case is all about.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This is a case about police brutality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Greed &amp; misfortunes leads us here toda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bel/Slander cas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Defense: Lukas Reiter was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caught red-handed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, and now he wants someone else to pay for his affair.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Plaintiff: Richard McKyton made a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jealous jump to conclusions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rder/Self Defense cas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Defense 1: With her back up against the wall and her roommate threatening to kill her, Ms. Hughes had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run out of options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Prosecution 1: Pat Hughes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took the law into her own hands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Defense 2: Facing death, Sarah Baker did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what all living things are instinctively programmed to do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…she defended herself. 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nterfeit case – missing “other suspect”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Defense: Reggie Jefferson had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the perfect cover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:  A trusting roommate with the same initials.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gligenc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Defense: It is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every driver’s worst nightmare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.  A small child darts into the road.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ell a stor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Focus on the people, not the problem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8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Who are the important players?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8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ersonalize your part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Make the story </a:t>
            </a:r>
            <a:r>
              <a:rPr b="1" lang="en-US" sz="2000" spc="-1" strike="noStrike">
                <a:solidFill>
                  <a:srgbClr val="6c6c6c"/>
                </a:solidFill>
                <a:latin typeface="Trebuchet MS"/>
              </a:rPr>
              <a:t>vivid</a:t>
            </a: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8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Re-create the incident.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8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Make it emotional and dramatic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KEEP IT SIMPL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KEEP IT SIMPL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KEEP IT SIMPL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 Logical and concise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Walk the jurors through the events in chronological order.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ticipate the other side’s weakn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n’t overstate the eviden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n’t include your personal opin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n’t argue -at least not in an obvious wa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22:58Z</dcterms:created>
  <dc:creator>Lauren Hemingway</dc:creator>
  <dc:description/>
  <dc:language>en-US</dc:language>
  <cp:lastModifiedBy>hmhendri</cp:lastModifiedBy>
  <dcterms:modified xsi:type="dcterms:W3CDTF">2012-03-05T20:23:57Z</dcterms:modified>
  <cp:revision>21</cp:revision>
  <dc:subject/>
  <dc:title>Slide 1</dc:title>
</cp:coreProperties>
</file>